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7317-D910-41EB-A61D-39BC4B4A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68F8-E126-4579-937D-CA0C25F2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FCF-B918-4B58-A085-8120FD97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A7EF-B89E-420E-A77D-A2F498682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7A2E-DD48-4F67-80E9-BACA0B27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BA57-8C89-45E7-BDCC-318709AD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27EB-3303-45F0-BD4E-F3885245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ED8-84DD-46B1-A5B9-A337F9B7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0903-5C56-4432-B4CE-D3211BC7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9FBA-8885-4C98-B8B7-B770F9BA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2D7D-BF8D-4899-8D77-C1B98A1B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96B-3AE4-4874-B775-99951ECA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F7D5-7041-4760-AD31-ECAA2027E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gonometry Quiz 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e, Cosine and Tang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the Quad 1 Special 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give the correct answer to each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355760" y="1219320"/>
          <a:ext cx="4027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1219320"/>
                    <a:ext cx="4027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405080" y="1219320"/>
          <a:ext cx="3927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7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355760" y="1219320"/>
          <a:ext cx="4027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1219320"/>
                    <a:ext cx="4027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405080" y="1219320"/>
          <a:ext cx="3927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7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355760" y="1219320"/>
          <a:ext cx="4027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1219320"/>
                    <a:ext cx="4027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405080" y="1219320"/>
          <a:ext cx="3927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7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355760" y="1219320"/>
          <a:ext cx="4027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1219320"/>
                    <a:ext cx="4027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405080" y="1219320"/>
          <a:ext cx="3927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7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355760" y="1219320"/>
          <a:ext cx="4027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1219320"/>
                    <a:ext cx="4027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405080" y="1219320"/>
          <a:ext cx="3927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7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355760" y="1219320"/>
          <a:ext cx="4027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1219320"/>
                    <a:ext cx="4027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405080" y="1219320"/>
          <a:ext cx="3927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7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355760" y="1219320"/>
          <a:ext cx="4027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1219320"/>
                    <a:ext cx="4027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405080" y="1219320"/>
          <a:ext cx="3927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7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55760" y="1219320"/>
          <a:ext cx="4027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1219320"/>
                    <a:ext cx="4027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405080" y="1219320"/>
          <a:ext cx="3927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7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355760" y="1219320"/>
          <a:ext cx="4027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5760" y="1219320"/>
                    <a:ext cx="4027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405080" y="1219320"/>
          <a:ext cx="3927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7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9:23:02Z</dcterms:created>
  <dc:creator> John</dc:creator>
  <dc:description/>
  <dc:language>en-US</dc:language>
  <cp:lastModifiedBy> John</cp:lastModifiedBy>
  <dcterms:modified xsi:type="dcterms:W3CDTF">2009-02-04T21:06:08Z</dcterms:modified>
  <cp:revision>8</cp:revision>
  <dc:subject/>
  <dc:title>Slide 1</dc:title>
</cp:coreProperties>
</file>